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CCF-D112-434B-87F1-17695B0F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90B-87C2-4D5A-918E-F5A4584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E6A-8DBA-4345-A3B2-F82C3DC4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FF2-0887-403F-9B32-A9FBA73F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5AB0-B262-4DC2-BA00-F3A2225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F57-2678-40CB-8146-4D8C2E75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9508-9108-4001-8D97-753AA2DD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712F-00CD-4070-84CE-F4977CF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9164-7C31-4A9C-A6BB-EE2E2AD4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62D6-6D35-418E-ABD3-AE40F3C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2F93-D807-4EEB-AD11-62D7C9B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E2C-4272-4649-83CD-9F8367E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165-FD46-4FD2-8DBB-11B283A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0B23-3683-45DB-A656-EBE8B5B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789B-5B45-454D-8A11-70FDF0BD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336F-FC8C-4C60-99CF-A67C47BA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A0F6-3675-49C0-8F28-29F85BDF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C19-62F1-4EDB-BA72-922C702D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160-2EDF-4D93-B8E2-05DF1B4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74B-38A7-4E1E-BB66-0FE13213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B5D-B6A1-4B75-A84B-7260C688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151-4C2E-4D63-ACAC-A0A59E3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FDF-2E02-4CC2-B54D-E879CBC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E9D-3716-4B46-BAAE-7A03BA0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A6E-B342-4B96-ADF2-85C82D42C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6B0E-C66D-4D42-8CE4-D5C8D2007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_x0010_It’s is possible that nations such as Kirkbati _x0010_may have already reached a tipping point because of the long delay involved in  reducing greenhouse gas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-- And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37:08Z</dcterms:created>
  <dc:creator>PA Department of Education</dc:creator>
  <dc:description/>
  <dc:language>en-US</dc:language>
  <cp:lastModifiedBy>PA Department of Education Classrooms for the Future</cp:lastModifiedBy>
  <dcterms:modified xsi:type="dcterms:W3CDTF">2009-05-29T18:16:17Z</dcterms:modified>
  <cp:revision>4</cp:revision>
  <dc:subject/>
  <dc:title>Something  </dc:title>
</cp:coreProperties>
</file>